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61DB-9F15-42BE-8473-5AC4787E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18AF-2FFB-4559-92EB-61C963DC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590D-C1B3-4941-8670-21A0AA55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817A-D7D5-4953-99E8-1FC262AA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124D-0171-4A0A-A929-43DB2690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F4CF-8E48-4CBF-AAFF-7D2B1ADD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BA6B-4A90-4FC2-B36C-29EE7E59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8EDC-E8CE-487E-957F-FD8971D9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83E0-616F-4D4C-95E0-7E406CFC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8408-685E-45D5-8007-E4C07008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1930-89C5-468C-8DDC-81A4867E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E388-0333-4FE8-A144-784E3879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4054-5B6F-4AE1-8411-FD8C2324C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76320" y="2286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symbol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2"/>
          <p:cNvGraphicFramePr/>
          <p:nvPr/>
        </p:nvGraphicFramePr>
        <p:xfrm>
          <a:off x="506520" y="762120"/>
          <a:ext cx="380880" cy="14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762120"/>
                    <a:ext cx="38088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3"/>
          <p:cNvGraphicFramePr/>
          <p:nvPr/>
        </p:nvGraphicFramePr>
        <p:xfrm>
          <a:off x="1905120" y="671400"/>
          <a:ext cx="53964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671400"/>
                    <a:ext cx="539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76320" y="228600"/>
            <a:ext cx="89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sample t test &amp; interval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sample t test &amp; interv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Object 2"/>
          <p:cNvGraphicFramePr/>
          <p:nvPr/>
        </p:nvGraphicFramePr>
        <p:xfrm>
          <a:off x="533520" y="3048120"/>
          <a:ext cx="1431720" cy="146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8120"/>
                    <a:ext cx="1431720" cy="14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3"/>
          <p:cNvGraphicFramePr/>
          <p:nvPr/>
        </p:nvGraphicFramePr>
        <p:xfrm>
          <a:off x="5867280" y="2590920"/>
          <a:ext cx="2133720" cy="16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590920"/>
                    <a:ext cx="21337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4"/>
          <p:cNvGraphicFramePr/>
          <p:nvPr/>
        </p:nvGraphicFramePr>
        <p:xfrm>
          <a:off x="533520" y="4800600"/>
          <a:ext cx="1461960" cy="100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800600"/>
                    <a:ext cx="146196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5"/>
          <p:cNvGraphicFramePr/>
          <p:nvPr/>
        </p:nvGraphicFramePr>
        <p:xfrm>
          <a:off x="5029200" y="4419720"/>
          <a:ext cx="3870360" cy="134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4419720"/>
                    <a:ext cx="387036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6"/>
          <p:cNvGraphicFramePr/>
          <p:nvPr/>
        </p:nvGraphicFramePr>
        <p:xfrm>
          <a:off x="228600" y="762120"/>
          <a:ext cx="209556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762120"/>
                    <a:ext cx="2095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" name="Object 7"/>
              <p:cNvSpPr txBox="1"/>
              <p:nvPr/>
            </p:nvSpPr>
            <p:spPr>
              <a:xfrm>
                <a:off x="2514600" y="83808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,</m:t>
                        </m:r>
                        <m:r>
                          <m:t xml:space="preserve">&lt;</m:t>
                        </m:r>
                        <m:r>
                          <m:t xml:space="preserve">,</m:t>
                        </m:r>
                        <m:r>
                          <m:t xml:space="preserve">&gt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8" name="Object 8"/>
          <p:cNvGraphicFramePr/>
          <p:nvPr/>
        </p:nvGraphicFramePr>
        <p:xfrm>
          <a:off x="6010200" y="762120"/>
          <a:ext cx="2603520" cy="114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0200" y="762120"/>
                    <a:ext cx="26035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76320" y="228600"/>
            <a:ext cx="89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sample Z test &amp; interval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sample Z test &amp; interv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Object 2"/>
          <p:cNvGraphicFramePr/>
          <p:nvPr/>
        </p:nvGraphicFramePr>
        <p:xfrm>
          <a:off x="457200" y="2895480"/>
          <a:ext cx="181620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95480"/>
                    <a:ext cx="18162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3" name="Object 3"/>
              <p:cNvSpPr txBox="1"/>
              <p:nvPr/>
            </p:nvSpPr>
            <p:spPr>
              <a:xfrm>
                <a:off x="380880" y="4538520"/>
                <a:ext cx="20653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±</m:t>
                    </m:r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457200" y="1143000"/>
                <a:ext cx="2095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p</m:t>
                        </m:r>
                        <m:r>
                          <m:t xml:space="preserve">≠</m:t>
                        </m:r>
                        <m:r>
                          <m:t xml:space="preserve">,</m:t>
                        </m:r>
                        <m:r>
                          <m:t xml:space="preserve">&lt;</m:t>
                        </m:r>
                        <m:r>
                          <m:t xml:space="preserve">,</m:t>
                        </m:r>
                        <m:r>
                          <m:t xml:space="preserve">&gt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5" name="Object 5"/>
          <p:cNvGraphicFramePr/>
          <p:nvPr/>
        </p:nvGraphicFramePr>
        <p:xfrm>
          <a:off x="4876920" y="631800"/>
          <a:ext cx="26352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631800"/>
                    <a:ext cx="2635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6"/>
          <p:cNvGraphicFramePr/>
          <p:nvPr/>
        </p:nvGraphicFramePr>
        <p:xfrm>
          <a:off x="3886200" y="4795920"/>
          <a:ext cx="4950000" cy="99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4795920"/>
                    <a:ext cx="495000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7"/>
          <p:cNvGraphicFramePr/>
          <p:nvPr/>
        </p:nvGraphicFramePr>
        <p:xfrm>
          <a:off x="5943600" y="3505320"/>
          <a:ext cx="2760840" cy="84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3505320"/>
                    <a:ext cx="276084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9"/>
          <p:cNvGraphicFramePr/>
          <p:nvPr/>
        </p:nvGraphicFramePr>
        <p:xfrm>
          <a:off x="4876920" y="1981080"/>
          <a:ext cx="3084480" cy="1293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1981080"/>
                    <a:ext cx="308448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42840" y="228600"/>
            <a:ext cx="17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-Square Tes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228600" y="685800"/>
          <a:ext cx="61610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61610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TextBox 3"/>
          <p:cNvSpPr/>
          <p:nvPr/>
        </p:nvSpPr>
        <p:spPr>
          <a:xfrm>
            <a:off x="241200" y="2666880"/>
            <a:ext cx="35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 Reg t Test &amp; interva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Object 4"/>
          <p:cNvGraphicFramePr/>
          <p:nvPr/>
        </p:nvGraphicFramePr>
        <p:xfrm>
          <a:off x="441360" y="3395520"/>
          <a:ext cx="2220840" cy="11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360" y="3395520"/>
                    <a:ext cx="222084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5"/>
          <p:cNvGraphicFramePr/>
          <p:nvPr/>
        </p:nvGraphicFramePr>
        <p:xfrm>
          <a:off x="700200" y="4800600"/>
          <a:ext cx="1325520" cy="112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0200" y="4800600"/>
                    <a:ext cx="132552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6"/>
          <p:cNvGraphicFramePr/>
          <p:nvPr/>
        </p:nvGraphicFramePr>
        <p:xfrm>
          <a:off x="4724280" y="3505320"/>
          <a:ext cx="1822680" cy="62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3505320"/>
                    <a:ext cx="182268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7:56:24Z</dcterms:created>
  <dc:creator>pwheeles</dc:creator>
  <dc:description/>
  <dc:language>en-US</dc:language>
  <cp:lastModifiedBy>Lauren McNelis</cp:lastModifiedBy>
  <dcterms:modified xsi:type="dcterms:W3CDTF">2012-01-05T13:15:44Z</dcterms:modified>
  <cp:revision>14</cp:revision>
  <dc:subject/>
  <dc:title>Slide 1</dc:title>
</cp:coreProperties>
</file>